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5213" cy="42811700"/>
  <p:notesSz cx="6591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2724804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3800" y="22987080"/>
            <a:ext cx="2724804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604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3800" y="2298708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6040" y="2298708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6560" y="1001772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38960" y="1001772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3800" y="2298708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6560" y="2298708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38960" y="22987080"/>
            <a:ext cx="87735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3800" y="10017720"/>
            <a:ext cx="2724804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437"/>
              </a:spcBef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2724804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1329696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6040" y="10017720"/>
            <a:ext cx="1329696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48040" cy="33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437"/>
              </a:spcBef>
              <a:tabLst>
                <a:tab algn="l" pos="0"/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6040" y="10017720"/>
            <a:ext cx="1329696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3800" y="2298708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13296960" cy="24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604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6040" y="2298708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48040" cy="71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380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6040" y="10017720"/>
            <a:ext cx="1329696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3800" y="22987080"/>
            <a:ext cx="27248040" cy="118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437"/>
              </a:spcBef>
              <a:buNone/>
              <a:tabLst>
                <a:tab algn="l" pos="3798720"/>
                <a:tab algn="l" pos="7597800"/>
              </a:tabLst>
            </a:pPr>
            <a:endParaRPr b="1" lang="en-US" sz="8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1008000" y="1027080"/>
            <a:ext cx="28259280" cy="4464000"/>
          </a:xfrm>
          <a:prstGeom prst="rect">
            <a:avLst/>
          </a:prstGeom>
          <a:solidFill>
            <a:srgbClr val="9ac5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Picture 30" descr=""/>
          <p:cNvPicPr/>
          <p:nvPr/>
        </p:nvPicPr>
        <p:blipFill>
          <a:blip r:embed="rId2"/>
          <a:stretch/>
        </p:blipFill>
        <p:spPr>
          <a:xfrm>
            <a:off x="2320920" y="2179800"/>
            <a:ext cx="706608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28"/>
          <p:cNvSpPr/>
          <p:nvPr/>
        </p:nvSpPr>
        <p:spPr>
          <a:xfrm>
            <a:off x="2303640" y="4484520"/>
            <a:ext cx="25668000" cy="6336000"/>
          </a:xfrm>
          <a:prstGeom prst="rect">
            <a:avLst/>
          </a:prstGeom>
          <a:solidFill>
            <a:srgbClr val="12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90000" anchor="ctr">
            <a:noAutofit/>
          </a:bodyPr>
          <a:p>
            <a:pPr marL="1006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200" spc="-1" strike="noStrike">
                <a:solidFill>
                  <a:srgbClr val="ffffff"/>
                </a:solidFill>
                <a:latin typeface="Arial"/>
                <a:ea typeface="Times New Roman"/>
              </a:rPr>
              <a:t>Master Thesis, HS1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1006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80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CH" sz="8000" spc="-1" strike="noStrike">
                <a:solidFill>
                  <a:srgbClr val="ffffff"/>
                </a:solidFill>
                <a:latin typeface="Arial"/>
                <a:ea typeface="Times New Roman"/>
              </a:rPr>
              <a:t>Title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1006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006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uthor:</a:t>
            </a: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006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upervision:</a:t>
            </a: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CH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1" descr="Logo_D-BAUG_new_CD_ohne_Text.png"/>
          <p:cNvPicPr/>
          <p:nvPr/>
        </p:nvPicPr>
        <p:blipFill>
          <a:blip r:embed="rId3"/>
          <a:srcRect l="0" t="0" r="0" b="11337"/>
          <a:stretch/>
        </p:blipFill>
        <p:spPr>
          <a:xfrm>
            <a:off x="2320920" y="40127400"/>
            <a:ext cx="5716440" cy="1660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IBI-Logo_Institute_RGB_600dpi.png"/>
          <p:cNvPicPr/>
          <p:nvPr/>
        </p:nvPicPr>
        <p:blipFill>
          <a:blip r:embed="rId4"/>
          <a:stretch/>
        </p:blipFill>
        <p:spPr>
          <a:xfrm>
            <a:off x="11584080" y="40127400"/>
            <a:ext cx="7107120" cy="16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4520" y="7651800"/>
            <a:ext cx="27246240" cy="71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798720"/>
                <a:tab algn="l" pos="7597800"/>
              </a:tabLst>
            </a:pPr>
            <a:endParaRPr b="1" lang="en-US" sz="10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atthias Vogel</dc:creator>
  <dc:description/>
  <dc:language>en-US</dc:language>
  <cp:lastModifiedBy>Wellauer  Ricarda</cp:lastModifiedBy>
  <cp:lastPrinted>2011-06-01T18:18:36Z</cp:lastPrinted>
  <dcterms:modified xsi:type="dcterms:W3CDTF">2014-09-25T12:50:33Z</dcterms:modified>
  <cp:revision>585</cp:revision>
  <dc:subject/>
  <dc:title>Folie 1</dc:title>
</cp:coreProperties>
</file>