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58F-AB54-451B-95E3-E36F1348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4DA-5818-4E86-B622-5F16CBE5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D46-6CDD-4EAB-8ABD-9EC58493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749-D417-4113-96B1-6E32757B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3A1-C0D1-442E-8A42-90645452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B40-9FAB-4350-B301-C9701F02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0A6-D93E-4862-B045-D1830F9D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C8F-E14B-431A-A141-6181D66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231-9228-4E0B-A9A2-207B4902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BA3-E0D1-4F4D-B83D-1974EA5E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9B1-FEA4-4E69-BEDB-1096D0C9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7E1-D2CF-4A68-A8D4-AFA9FE4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53D0-810A-4FF2-A942-3240E37F5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44197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657600" y="2742840"/>
            <a:ext cx="9144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743200"/>
            <a:ext cx="13716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419720"/>
            <a:ext cx="12193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4419360"/>
            <a:ext cx="106668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437920" y="2666520"/>
            <a:ext cx="121932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666880"/>
            <a:ext cx="41911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943240" y="2819520"/>
            <a:ext cx="6858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0600" y="36957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54120" y="444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4160" y="4443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9600" y="30718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5600" y="30718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1200" y="48243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9760" y="33764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9960" y="33764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4320" y="444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9600" y="208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31120" y="51292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12240" y="50529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50680" y="35290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2240" y="24764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8880" y="2400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3080" y="35290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19520" y="4419720"/>
            <a:ext cx="8380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409720" y="990720"/>
            <a:ext cx="1219320" cy="182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876920" y="5943600"/>
            <a:ext cx="175248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943240" y="4419360"/>
            <a:ext cx="685800" cy="19047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276720" y="914400"/>
            <a:ext cx="1295280" cy="182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38280" y="914400"/>
            <a:ext cx="83844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4419720"/>
            <a:ext cx="20574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72000" y="990720"/>
            <a:ext cx="8380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00200" y="2666520"/>
            <a:ext cx="838080" cy="1752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819520" y="5943240"/>
            <a:ext cx="2057400" cy="2286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4419720"/>
            <a:ext cx="19810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629400" y="2819160"/>
            <a:ext cx="129528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5560" y="55101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65600" y="55101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8600" y="383364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60680" y="19288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6960" y="18525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60280" y="383364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7000" y="22860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s of W point on triangular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4400" y="257040"/>
            <a:ext cx="178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w(iw)%im(1: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w(iw)%iu(1: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w(iw)%iw(1: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52680" y="1981080"/>
            <a:ext cx="152640" cy="12193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361960" y="3200400"/>
            <a:ext cx="1143000" cy="7621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657240" y="4952880"/>
            <a:ext cx="1219320" cy="6098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952880"/>
            <a:ext cx="990360" cy="685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200400"/>
            <a:ext cx="1067040" cy="7621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1981080"/>
            <a:ext cx="380880" cy="12193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723920" y="3200400"/>
            <a:ext cx="1143000" cy="609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809880"/>
            <a:ext cx="152640" cy="11430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3200400"/>
            <a:ext cx="1218960" cy="609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3434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57600" y="2666520"/>
            <a:ext cx="9144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666880"/>
            <a:ext cx="13716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4343400"/>
            <a:ext cx="12193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76920" y="4343040"/>
            <a:ext cx="106668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437920" y="2590920"/>
            <a:ext cx="121932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590920"/>
            <a:ext cx="41911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943240" y="2743200"/>
            <a:ext cx="6858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30600" y="361944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54120" y="4367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4160" y="43671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9600" y="29955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5600" y="29955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51200" y="474804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9760" y="3300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9960" y="3300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4320" y="4367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9600" y="2004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31120" y="50529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12240" y="49766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50680" y="34527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2240" y="2400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8880" y="23241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3080" y="34527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819520" y="4343400"/>
            <a:ext cx="8380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409720" y="914400"/>
            <a:ext cx="1219320" cy="182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876920" y="5866920"/>
            <a:ext cx="175248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943240" y="4343400"/>
            <a:ext cx="685800" cy="1905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276720" y="838080"/>
            <a:ext cx="1295280" cy="182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38280" y="837720"/>
            <a:ext cx="838440" cy="1752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43400"/>
            <a:ext cx="20574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72000" y="914400"/>
            <a:ext cx="8380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2590920"/>
            <a:ext cx="8380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819520" y="5866920"/>
            <a:ext cx="2057400" cy="2286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4343400"/>
            <a:ext cx="19810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629400" y="2742840"/>
            <a:ext cx="129528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5560" y="543384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5600" y="543384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8600" y="37576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60680" y="18525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6960" y="177624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60280" y="37576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58680" y="24300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s of W point on triangular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78080" y="228600"/>
            <a:ext cx="178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w(iw)%im(1: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w(iw)%iu(1: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w(iw)%iw(1: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57600" y="36576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1980720"/>
            <a:ext cx="9144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81080"/>
            <a:ext cx="13716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657600"/>
            <a:ext cx="12193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76920" y="3657240"/>
            <a:ext cx="106668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437920" y="1905120"/>
            <a:ext cx="121932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905120"/>
            <a:ext cx="41911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240" y="2057400"/>
            <a:ext cx="6858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6880" y="3657600"/>
            <a:ext cx="99072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5105160"/>
            <a:ext cx="44960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657600"/>
            <a:ext cx="12193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58320" y="33368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5288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4880" y="39862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31880" y="45957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9600" y="23860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89280" y="23860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2600" y="28432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4200" y="44434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2360" y="4214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4840" y="16239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88120" y="28432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32640" y="2963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69040" y="4214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7480" y="52815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6280" y="43671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75800" y="26906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2240" y="1700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50680" y="27669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9440" y="52052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5240" y="41385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82320" y="35053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22440" y="34527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13200" y="24300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s of U point on triangular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4040" y="257040"/>
            <a:ext cx="177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u(iu)%im(1: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u(iu)%iu(1: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u(iu)%iw(1: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7600" y="36576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1980720"/>
            <a:ext cx="9144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981080"/>
            <a:ext cx="13716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3657600"/>
            <a:ext cx="12193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876920" y="3657240"/>
            <a:ext cx="106668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437920" y="1905120"/>
            <a:ext cx="121932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1905120"/>
            <a:ext cx="41911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943240" y="2057400"/>
            <a:ext cx="6858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666880" y="3657600"/>
            <a:ext cx="99072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66880" y="5105160"/>
            <a:ext cx="44960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3657600"/>
            <a:ext cx="12193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58320" y="33368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95288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4880" y="39862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31880" y="45957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9600" y="23860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9280" y="23860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2600" y="28432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4200" y="44434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12360" y="4214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4840" y="16239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88120" y="28432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32640" y="2963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69040" y="4214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7480" y="52815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6280" y="43671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75800" y="26906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2240" y="1700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50680" y="27669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9440" y="52052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5240" y="41385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82320" y="35053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22440" y="34527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019560" y="4038480"/>
            <a:ext cx="990360" cy="6098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371600"/>
            <a:ext cx="76320" cy="11430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724280" y="2514600"/>
            <a:ext cx="990720" cy="4572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657600" y="4190760"/>
            <a:ext cx="1219320" cy="609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4191120"/>
            <a:ext cx="1143000" cy="4572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2590920"/>
            <a:ext cx="1143000" cy="380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2971800"/>
            <a:ext cx="152640" cy="12193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1219320"/>
            <a:ext cx="75960" cy="13716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4648320"/>
            <a:ext cx="152280" cy="1295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4800600"/>
            <a:ext cx="152280" cy="12193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4114800"/>
            <a:ext cx="1219320" cy="685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2590920"/>
            <a:ext cx="1219320" cy="53316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514240" y="2590920"/>
            <a:ext cx="1066680" cy="4572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13200" y="24300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s of U point on triangular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4040" y="257040"/>
            <a:ext cx="177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u(iu)%im(1: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u(iu)%iu(1: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u(iu)%iw(1: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0" y="2819520"/>
            <a:ext cx="533520" cy="76176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162560" y="3581280"/>
            <a:ext cx="228600" cy="76212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4648320"/>
            <a:ext cx="152280" cy="1295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1371600"/>
            <a:ext cx="76320" cy="11430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1219320"/>
            <a:ext cx="75960" cy="13716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514240" y="2590920"/>
            <a:ext cx="1066680" cy="2286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209320" y="2819520"/>
            <a:ext cx="304920" cy="76176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581280"/>
            <a:ext cx="381240" cy="83844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4419720"/>
            <a:ext cx="1066680" cy="380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4800600"/>
            <a:ext cx="152280" cy="12193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657600" y="4190760"/>
            <a:ext cx="1219320" cy="609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019560" y="4343400"/>
            <a:ext cx="1143000" cy="3049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4191120"/>
            <a:ext cx="1143000" cy="4572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2971800"/>
            <a:ext cx="152640" cy="12193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724280" y="2514600"/>
            <a:ext cx="990720" cy="4572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514600"/>
            <a:ext cx="1143000" cy="3049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36576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657600" y="1980720"/>
            <a:ext cx="9144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1981080"/>
            <a:ext cx="13716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3657600"/>
            <a:ext cx="12193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76920" y="3657240"/>
            <a:ext cx="106668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437920" y="1905120"/>
            <a:ext cx="121932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905120"/>
            <a:ext cx="41911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943240" y="2057400"/>
            <a:ext cx="6858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66880" y="3657600"/>
            <a:ext cx="99072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666880" y="5105160"/>
            <a:ext cx="44960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3600" y="3657600"/>
            <a:ext cx="12193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58320" y="33368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95288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4880" y="39862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31880" y="45957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9600" y="23860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9280" y="23860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22600" y="28432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4200" y="44434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48640" y="41148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54840" y="16239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24840" y="28195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32640" y="2963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5360" y="4191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07480" y="52815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75800" y="44197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5800" y="26906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12240" y="1700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18640" y="2743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69440" y="52052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02960" y="40622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u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96840" y="33764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000" y="33847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590920"/>
            <a:ext cx="1143000" cy="380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599840" y="2895120"/>
            <a:ext cx="205740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943600" y="2895480"/>
            <a:ext cx="190512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676160" y="3657600"/>
            <a:ext cx="198108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5943240" y="3657600"/>
            <a:ext cx="213372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13200" y="24300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s of U point on triangular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4040" y="257040"/>
            <a:ext cx="177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u(iu)%im(1: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u(iu)%iu(1: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u(iu)%iw(1: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2514240" y="1905120"/>
            <a:ext cx="3962880" cy="3581280"/>
            <a:chOff x="2514240" y="1905120"/>
            <a:chExt cx="3962880" cy="3581280"/>
          </a:xfrm>
        </p:grpSpPr>
        <p:sp>
          <p:nvSpPr>
            <p:cNvPr id="278" name=""/>
            <p:cNvSpPr/>
            <p:nvPr/>
          </p:nvSpPr>
          <p:spPr>
            <a:xfrm>
              <a:off x="2514600" y="2362320"/>
              <a:ext cx="2057400" cy="3124080"/>
            </a:xfrm>
            <a:custGeom>
              <a:avLst/>
              <a:gdLst/>
              <a:ahLst/>
              <a:rect l="l" t="t" r="r" b="b"/>
              <a:pathLst>
                <a:path w="1296" h="1968">
                  <a:moveTo>
                    <a:pt x="672" y="1968"/>
                  </a:moveTo>
                  <a:lnTo>
                    <a:pt x="1296" y="960"/>
                  </a:lnTo>
                  <a:lnTo>
                    <a:pt x="384" y="0"/>
                  </a:lnTo>
                  <a:lnTo>
                    <a:pt x="0" y="1056"/>
                  </a:lnTo>
                  <a:lnTo>
                    <a:pt x="672" y="19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3886200"/>
              <a:ext cx="19051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4572000" y="2819160"/>
              <a:ext cx="15238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5880" y="2819520"/>
              <a:ext cx="38124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0" y="3886200"/>
              <a:ext cx="91440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486400" y="4419360"/>
              <a:ext cx="990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3124080" y="2361960"/>
              <a:ext cx="144792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124080" y="1905120"/>
              <a:ext cx="1600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581280" y="3886200"/>
              <a:ext cx="99072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581280" y="5410080"/>
              <a:ext cx="19051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514240" y="3886200"/>
              <a:ext cx="2057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2514240" y="4038480"/>
              <a:ext cx="106668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14600" y="2362320"/>
              <a:ext cx="60948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26800" y="367524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27200" y="47624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w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26960" y="330048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w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70000" y="24764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w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4480" y="253836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w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70200" y="354348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w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12960" y="438156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w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16960" y="44434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iu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74120" y="44434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iu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97920" y="389412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iu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58360" y="296532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iu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09120" y="2705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iu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97960" y="29336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iu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1905120"/>
              <a:ext cx="13716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571640" y="1905120"/>
              <a:ext cx="15228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55560" y="436716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w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21640" y="396252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iu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94920" y="77616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One or both shaded sectors are unused at certain M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13200" y="24300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s of M point on triangular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4760" y="257040"/>
            <a:ext cx="18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m(im)%iu(1: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m(im)%iw(1: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724280" y="25909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657240" y="411480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1752480"/>
            <a:ext cx="121896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723920" y="1752480"/>
            <a:ext cx="114300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057400" y="1752480"/>
            <a:ext cx="14479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572000"/>
            <a:ext cx="14479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1752480"/>
            <a:ext cx="1600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24280" y="4114800"/>
            <a:ext cx="14479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172200" y="4343400"/>
            <a:ext cx="1371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51055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50292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6858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762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523880" y="2362320"/>
            <a:ext cx="533520" cy="99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1523520" y="335232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2286000"/>
            <a:ext cx="53352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543800" y="3352680"/>
            <a:ext cx="457200" cy="99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429000"/>
            <a:ext cx="29718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1295280"/>
            <a:ext cx="1447920" cy="21337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2514600"/>
            <a:ext cx="2362320" cy="91440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5867280"/>
            <a:ext cx="266688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286000" y="3428640"/>
            <a:ext cx="990720" cy="2438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276720" y="1294920"/>
            <a:ext cx="1523880" cy="21337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1295280"/>
            <a:ext cx="259092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1295280"/>
            <a:ext cx="1067040" cy="21337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1295280"/>
            <a:ext cx="22860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248520" y="1294920"/>
            <a:ext cx="838080" cy="21337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429000"/>
            <a:ext cx="1523880" cy="2438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800600" y="3429000"/>
            <a:ext cx="1447920" cy="2438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48520" y="3429000"/>
            <a:ext cx="1218960" cy="2438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5867280"/>
            <a:ext cx="25146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62120" y="3428640"/>
            <a:ext cx="2514600" cy="106668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3429000"/>
            <a:ext cx="2361960" cy="91440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248520" y="2514600"/>
            <a:ext cx="2361960" cy="91440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97640" y="30211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33526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93280" y="3386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572000" y="3124080"/>
            <a:ext cx="0" cy="5335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90440" y="38815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26800" y="24764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66560" y="50436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74320" y="15033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09680" y="14940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30440" y="4976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92840" y="458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2920" y="2004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69040" y="2004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8920" y="2622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06920" y="39099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34200" y="4535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91760" y="18050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774560" y="275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726680" y="37702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94720" y="4572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12240" y="2004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64520" y="4443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37760" y="990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61040" y="10018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32960" y="5835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19800" y="5832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55560" y="31240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03680" y="32688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4880" y="58071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8560" y="990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13200" y="76320"/>
            <a:ext cx="46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s of V point on hexagonal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3680" y="257040"/>
            <a:ext cx="175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v(iv)%im(1: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v(iv)%iv(1: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v(iv)%iw(1: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952880" y="3352680"/>
            <a:ext cx="1447920" cy="198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400440" y="3352680"/>
            <a:ext cx="685800" cy="198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24480" y="1600200"/>
            <a:ext cx="762120" cy="1752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1295280"/>
            <a:ext cx="1904760" cy="3049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733560" y="1295280"/>
            <a:ext cx="685800" cy="5335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895480" y="2438280"/>
            <a:ext cx="76320" cy="198144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33920" y="4952880"/>
            <a:ext cx="685800" cy="4572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419720" y="5333760"/>
            <a:ext cx="1981080" cy="7596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419360" y="3352680"/>
            <a:ext cx="533160" cy="20574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895480" y="3352680"/>
            <a:ext cx="2057400" cy="106704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2971440" y="2438280"/>
            <a:ext cx="1981080" cy="91440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19720" y="1219320"/>
            <a:ext cx="533160" cy="213336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952880" y="1600200"/>
            <a:ext cx="1371600" cy="1752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952520" y="3352680"/>
            <a:ext cx="213372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28195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190512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81480" y="3962520"/>
            <a:ext cx="9907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4038120" y="449532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114440" y="1905120"/>
            <a:ext cx="10666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428640" y="220968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335268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352320" y="4495680"/>
            <a:ext cx="685800" cy="1067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209320" y="33526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3352320" y="1371600"/>
            <a:ext cx="76212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4724280"/>
            <a:ext cx="763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6171840" y="3962520"/>
            <a:ext cx="10666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171840" y="2362320"/>
            <a:ext cx="10666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181120" y="838080"/>
            <a:ext cx="22860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27160" y="32004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94000" y="52578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46080" y="22860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4000" y="10666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8760" y="14479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60880" y="32004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75080" y="51055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9760" y="41911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45200" y="4572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78520" y="38098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21440" y="2438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21520" y="1720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40840" y="2133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26480" y="3200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0840" y="4267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63240" y="41911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26880" y="4371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68200" y="37260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641200" y="26989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45960" y="19494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83840" y="21700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31520" y="32004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m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971440" y="1828800"/>
            <a:ext cx="762120" cy="60948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95480" y="4419720"/>
            <a:ext cx="838440" cy="53316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12840" y="243000"/>
            <a:ext cx="46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s of W point on hexagonal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54400" y="257040"/>
            <a:ext cx="178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w(iw)%im(1: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w(iw)%iv(1: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w(iw)%iw(1: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648320" y="2133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657600" y="32767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276720"/>
            <a:ext cx="10666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1295280"/>
            <a:ext cx="1067040" cy="8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1295280"/>
            <a:ext cx="1067040" cy="8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3276720"/>
            <a:ext cx="1066680" cy="83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57600" y="41148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2133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90920" y="2133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590560" y="1295280"/>
            <a:ext cx="990360" cy="8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715000" y="32767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647960" y="1295280"/>
            <a:ext cx="990360" cy="8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15000" y="41148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5181480"/>
            <a:ext cx="1066680" cy="8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724280" y="5181480"/>
            <a:ext cx="990720" cy="8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27080" y="3048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89280" y="25146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55560" y="25588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22600" y="4419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w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43680" y="24829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83480" y="36259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97960" y="3429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13200" y="24300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s of M point on hexagonal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54760" y="257040"/>
            <a:ext cx="18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m(im)%iv(1: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33b2"/>
                </a:solidFill>
                <a:latin typeface="Arial"/>
              </a:rPr>
              <a:t>itab_m(im)%iw(1: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09:16Z</dcterms:created>
  <dc:creator>walko</dc:creator>
  <dc:description/>
  <dc:language>en-US</dc:language>
  <cp:lastModifiedBy>walko</cp:lastModifiedBy>
  <dcterms:modified xsi:type="dcterms:W3CDTF">2010-03-27T21:48:19Z</dcterms:modified>
  <cp:revision>27</cp:revision>
  <dc:subject/>
  <dc:title>Slide 47</dc:title>
</cp:coreProperties>
</file>